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58D-8BD5-4126-8ABC-CECB5247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501-6832-4248-BD86-8A3AA785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9884C-CBE8-4DF7-A54D-758BA98D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57B5C-F7F6-4B3D-B16A-9E7B5A62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F8A1-6FC6-4808-AF67-E8DE0B7F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55699-93A4-4803-AA28-52C3E75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CE37-5F6E-4499-B172-9BE67E5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E2143-6E56-4463-9FA9-FA41202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B32B2-1013-4241-B5C1-3E071ED2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5F253-73F6-4220-8DE8-AAE1907C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3BB38-E4EB-45A5-B76B-8B4CA49C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49D36-F11B-4BFD-98EA-CA3CB962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16F-0EDF-46A6-9F44-4CB7DFD0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8DEFF-ABF7-4404-9C90-65877150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E113B-E88E-464C-86D6-C54ED871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5D7EB-A6E1-4CB3-82AA-68131107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E65B6-5883-4844-992D-56037AA6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8A3FC-DBE8-463E-B318-8EA86109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BA287-A277-4B80-BC5C-3A5C2996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2097C-E7F6-4D68-B48F-761C9CE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F4281-3725-4923-9C66-F63DD2B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B0110-B2EA-4D1B-B872-661F010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5234C-BD31-4A04-8930-4A7EA997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62F-AB91-414F-8313-CDCE4918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E21C8-A3E0-41E2-AB88-4FE71421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E6FC2-8611-435A-BCBE-3204CDB2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3B536-017A-40E8-B925-73BB1E1A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3C065-493C-40E2-852B-DD072ED7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92EA-5837-4550-8984-13F2DB25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5D3E6-EB26-4AA7-8503-76B31DB7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B143-9A59-4290-BB05-1166EA27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7E3FB-E4BB-415A-84BB-50B3615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A6AA9-ED35-4F79-9AA9-318BADAA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B3041-506C-426C-BFB7-CF3ABB0C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7C05-A509-4B71-A45E-14494934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E53AF-4979-454B-BCB5-47ADB1FA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8B0C0-E1A3-49DA-B5A6-8ED463AD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D37C3-1AD5-4D2C-AA76-C7CB7822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4F2D4-5655-40A0-BB66-2051680F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25F21-1F7D-41C8-8111-E6171ED1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6D17E-6B5C-444B-9EBE-3B8C2124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4FC27-E490-416B-9A3F-469617E5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C5D4C-0F92-4337-9ECC-1708404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A51C7-11BC-4858-9885-FD21CE5B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02640-65B5-42F8-9E4F-14578EE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774F-AD8F-41FB-A194-BF0C4E98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F93C1-7FD0-4E0C-A714-57A148D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7F3B2-E314-4648-A4CD-7573AD3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AE02C-EE33-43FB-8519-A133F021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CB24D-8649-4732-84A5-85C6D01F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4C063-EEE0-4A41-AD56-2FA184F5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BC5CC-6B74-4909-A864-E88E1E88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C6A8A-9333-4CF4-B682-7D6FE3B2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C7564-8083-4A1E-B9AB-B0C85050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4637A-89B4-4D59-BA9B-24C08585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F0DF5-9D45-4E34-9A3D-CABED1E0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8DF3-35B1-40F9-8782-C7B26565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21243-808D-495D-B130-CCD5A00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BBAF1-5564-4768-AB28-65C4DA2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88BFD-569C-4712-8B75-7D4650E1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230F7-15A8-4D57-A879-4CABC91D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FFB22-4397-4D76-9FA0-64EEED20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73C62-2ACD-46E9-8C42-9D6629CD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DE4BD-CC9A-4F9E-ACAC-3B6EB9F0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1DAF4-A6A0-48A1-9084-A3002A09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BB8C1-284E-4BA4-A626-D7EAC2A4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2BA68-08C5-4E60-B0A0-A2E4ED3D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06FE-5D5D-4E78-8D24-496F3459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B9A02-CB6B-4823-9FF8-097F446D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81E0C-541C-455C-9F63-E921C321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8D8F8-5D93-4917-B639-43E8EAD7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B9C8D-9542-4BF7-A28B-B61C0D8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3D791-7A3B-45A9-9A1E-4BBBC5F0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9239B-BB70-45EB-BAA6-327EA1D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175F1-9A57-4B13-AD32-96C023F5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E8522-BB42-4E58-9662-0A2BECFE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AD3D1-8ABF-4A19-83E1-09D36F87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FAB6C-B282-4B9A-9377-D8928E86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CF59-D00D-429E-9B79-913A9EA4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35360-BB36-4CA5-AE5C-B8053652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3CBBF-2C01-409F-BBE0-9276D903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27CB7-287E-4D56-AFB9-BDCC756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8C107-8674-48A4-AAD4-AD9C3748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E7FFE-1BBF-49F8-8015-23984441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777E6-1428-4FDD-9B96-8C265A32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AD002-29A6-4993-8365-954DC538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CE39B-9E02-48B3-BF98-ACE18F7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265F2-D47E-409E-AB06-7712E78F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542A8-E420-4A66-B6A9-1E3562DF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61EC-6F06-471A-B817-345D7A5E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80628-2FF2-42D2-9337-3B64B334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296FE-BDD1-43CE-BDDC-BD602323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7071B6-D28D-4A54-A5E8-B02B840A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86512-F1AC-4879-9911-1FCF4EF9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2FA90-956A-450A-AE34-C69728C1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9019C-0757-44D1-8BE9-528AD235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DFE9A-CA6A-422D-BE3B-AA7D4126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4D9B5-548C-4147-B843-0EF435E6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48101-86D1-4A11-B1DC-45645A8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CBD68-84D3-4EF7-9476-A1254A1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4F05-CA66-41DC-8F41-CDEAE5E1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49151-419B-4D57-A4CE-82490D68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65772-A6F5-4065-9868-EA924157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FDB39-CC42-4EDA-9B14-F7F28C4D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87AF2-AF6E-491D-90BA-62045EB0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301D3-15A4-4B06-BDB5-794F566A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3A506-1F69-4229-8EF8-CB16FDD2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ED189-1CEC-4D19-9DEF-D11C73EE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A8200-AE0A-4026-8E93-6A48D2EC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67CD88-41BF-450E-B7C0-114DD6D6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20278-E697-4E80-B0A7-1A48335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3C4-4A27-4078-955B-8DD6731E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4E66-3B10-48A8-AB38-3D2464AE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241BB-01A7-43B4-BD35-F927E5E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1D7AF-F4E1-4938-9E94-D428F73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8F72F-ADD2-4530-B384-EFE1A2EC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E6467-A037-4027-BE63-32896836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B0C82-E28E-46AA-9982-B2C6FF32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75FA3-245E-4D4F-8862-ADF12CBB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A85D4-4FD0-4091-B47D-8B3B2287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0678B-4229-4205-A629-B0011D0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4E86D-1FF2-427D-89FD-BE8A6567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2E572-58A5-4AA8-B7AF-5ECEAF4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2F3F-3E9C-4B41-9B43-D73E1529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11528-99AD-47BF-9304-D9ADAC3A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CAF9D-CBBD-4084-AA4B-428D4EB8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DF22E8-B70D-41AA-A71C-7FDF93D9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35481-8451-47D5-85D5-5ACA87D6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5AFAF-8AC1-48D7-B36E-341C1A77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FB4E6-B114-446B-9033-BFE1F570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4E42BC-A520-435F-80DC-513445F3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D0D93-D9E1-48F1-B2C8-B2FC8D8F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7C12A5-FE21-4183-9CE2-A486CD2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59A44-1B0C-43A1-AC52-2964D05B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B344-7413-4EA8-8B9D-A59CEB9C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72613-67DC-4760-B5B6-89E56359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AE5A54-F21B-41FB-96F0-3E3B69A2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F226D-6EB0-4AB9-B3BD-4D5720F5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142B9-86E9-40A5-855F-6B7976F7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A59EF-91CD-4F59-B2AF-2291F4D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C12C2-146F-4485-832C-6885BF8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590D4-787B-40BD-BDB9-88C1B783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C6873-56FF-4600-8F96-08E90727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BA25F-6BBF-47D4-B162-F5C4CE53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D9B31F-D447-4950-B9B4-9DC86BBD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C373-E57A-4090-9698-4D594503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9AE1B5-DBEE-4FD5-9A88-1FB5247C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8FE56-5DC4-4F51-90B7-1DEABD4F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31EF4-AE76-4460-BC63-0761D12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38DF4-FB7A-45DC-87A3-59AC831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A1CFE-1BF8-4BB1-94C2-BD58C071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85D12-A79B-4A0A-AD6D-ED4B9E89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A2FFB-0464-489D-B291-C89D760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14BAF-E231-4CE8-B755-1B8D6BC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A338A-860B-4626-89C4-48C0A868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6C2C0-E858-4AF9-9DED-BFEE4EEB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0EDD-693E-4177-B565-0EE063D5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D1189-FFE6-446D-B6E8-7093519C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5C4F70-02A7-4696-9F5A-D19E60DE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3FACF-E6FD-49E7-BD2C-4E1CC02C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14C8DC-AB7E-4461-8E22-BF2434E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0ABD9-D58D-4777-9919-4D099B13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BB9C83-3C59-466C-86CA-AF1F7F69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A7164-13AC-445B-9F59-D1250AB6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807184-F280-4F3C-8DBA-3E47ACF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09BD22-EFF9-441A-9148-560EB3A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8E1E6-2F77-432E-AB81-DB8C25A0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BF14-BE72-4EBB-A7DC-28103F5A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FDB8F-8C2D-484A-BE9D-CB00663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87CD2-E84E-47FA-B43B-28E58123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99347-7BA2-4E49-9F80-2EB376DC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50187-E1B9-4082-9D43-4740C322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E49BD2-BB2E-4D16-A8A6-1F7125B6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01DC5C-0789-410F-800B-DFAA96F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05FEE-02CC-47E7-8CD9-4484D58A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E2443F-F401-4E91-A157-908F336F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912F18-2C8D-4DA3-9710-1313852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482A69-D2BA-4B76-9ACA-5581FF7A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53BB-7236-4415-9E8B-B532DBD8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FD52BD-BFBA-405D-AB24-90F934F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797606-A83F-453F-859F-178EA1C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6A75B-1187-451E-8617-0E278EF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EE8902-5C14-4B6A-BC0C-3F94A7B1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298292-9931-42CB-AFBC-1EAC6B0F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FD9EF8-8A5E-4E44-8D71-7A02087B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A5E00E-8753-4DA1-8EC5-018D289B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4AD13-69FA-4BBA-978F-8574AB09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251A75-2AB7-413E-B4BA-D67355B2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E3479B-D9CF-4096-AE6C-A62FD082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1AAD-C8D7-446A-9480-8193155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01D7D-4F17-48B9-B4A4-6E332C31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2C446B-294C-4106-B987-49BF49CE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D611B5-8831-4EFB-8EDD-C9BF7149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B3C58B-2DDA-42A8-8A76-344A7373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9DE5E5-2626-44A9-AD2D-1F4BFCF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7B28DB-8623-45BF-A9F7-63324E09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7E48EE-6D02-4B27-AE82-FD7FEC4E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4546-C7A4-4906-9B27-9BDE73AC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3513-310D-4388-8255-0CC896DE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D64-7D9F-402D-A263-2B42D357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B4DD-BF2F-40E3-BC2D-A571E8DE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F999-0A51-4062-9724-52946B3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357D-2261-4FAE-8EE5-F5DD605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B82B-D63E-42C7-AEDC-87E15925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76B2-A0ED-46E4-A5C4-CCE0A90A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94E4-ACB1-4CCA-8625-5F5EA81B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B66D-017F-45AD-B999-611AAACB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529B-D277-468B-A063-0C11F57C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D153-10AC-4ADC-BB22-6A48A247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9EE0-84D6-4AE3-BBA3-F3A7A4CE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5E6-0A2A-4B90-A5B4-57146320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EA75F-0FE6-4C96-AB7C-0C8006FA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37C7-4CC7-403C-B83C-7050BEC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DEBF-E4DB-4763-BED1-9CC047A8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43F2-927C-4446-A293-6798272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03BB-A75B-4C7F-89E6-35F5F5E2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CDA4-9DD6-40BD-A4B7-037415B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6DD3-9C5E-4E69-9808-8C1AFE7B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BFC4-0712-4A41-8B2E-F3BB1C10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67E0-30D9-432E-B774-1EF5BA83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5E832-188E-4DF8-9CA9-0DE805C2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E9E-A9F9-453F-9779-DB0CC3F9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0A32-3EE1-4E1A-B19D-2F039060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A43DB-A165-4878-BDC1-C9287942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1088-C42B-4923-A216-D93B3D7C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6386D-551A-4051-9BA5-A0B1C9CA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7979-AAB9-428F-8D38-81214F38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9A87-F259-4818-9A28-3B1069A6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E1D7B-6032-4DC8-A990-415E27E5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79B79-3C15-4C22-B611-7613321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8002-6E69-4D67-89DE-89D8612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98763-1813-4E0F-8E14-49686E08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2B3-78C3-4FC1-9435-CE9B36DF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89F9C-0B8F-44FD-BA17-92855C94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5CF7A-7081-46F9-9B8E-8CBECCD9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C8D6-0BE3-4408-9EE2-096A33D2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BB7A-073C-4B1C-938B-FCEA4CFD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EBE4C-5AE5-4F46-B08C-812F193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C6C3D-DECA-48BB-9543-33B80037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5A97-B7F2-4D13-9D1C-C5846EFB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9776B-E39A-4190-B425-9831242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DC04-6BF0-4178-AA4E-A821130C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449A-7175-4783-8D85-42A46C2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ECB-9053-4169-964B-EA399B7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BDCD-CFCD-4953-8828-FA6722F3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3648A-C9D6-450B-B727-5F7626DB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6FBB-985B-4357-A297-25FAFC9A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8848-F166-4B88-8E17-25E22177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E9D7D-0FFE-49D3-AB6B-D9949952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2B3EF-AE01-4868-A53E-7E962AB6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E61BE-BAD1-4FA4-9C02-E766F334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5B992-BE27-4761-88BB-E956A4F2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94880-7F6A-4C51-ABB7-FED2EBAC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5467-9893-4469-AEFB-FB04119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BC7-0C0A-4934-A3AF-2215A26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4B208-AADA-4CB7-B7F1-3C345A9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20526-EC82-4B44-A6C0-E14667EF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B063-E1D9-4D82-964A-D64C46E7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F9D4-3B58-45EB-ABF7-EDECFC5E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65AA5-37FD-45C4-B673-13D434F9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57A65-BF45-49AD-9424-2E201C56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BA818-14F3-41DE-82A2-EC431A3E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3F7BD-E0A9-47C7-B433-41BD50DC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E069-87BE-4037-B758-C3A13CE2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C7B9E-1F16-46F4-989D-18CDE8FF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751-5766-4ECC-8F69-8EA8D78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827D-480B-4D55-837E-235373EA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634AE-B437-41E8-9560-2FD6B97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8E63A-9B44-49F3-92C4-8561F43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51077-0F3D-4E3A-8606-DECB22CA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CA803-007A-45F2-847A-C81B82D1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1FC33-DEBD-4C2A-8871-2A63BEA7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1C468-1C47-451E-A8ED-0AE436E8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83D6B-17EF-4FF4-A560-DAEC1BE1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0EF59-7BA6-44C0-8459-8D11CA68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F20FB-55E4-46C6-A314-CF423F74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8A80-FA78-4C52-B1F9-5BB29ABB85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CD20-E65C-4DC0-981E-92796C399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634B-EB1D-4A62-962F-4DE769832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E298-3D70-4737-AD2A-28383390C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FCE-1EEB-4E66-8B0A-25781172CD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463E-0687-47C1-9E36-F034A2770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5AD6-7CE0-486E-B72A-71F580F105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6455-664C-4016-AA5D-08116E9F8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1757-40D1-4847-BD50-46CFC2CEA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9492-B188-49D9-BD20-9EF1909A93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E1E-DCB0-4952-9B62-9CA941E2CD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CC7D-3EF7-4CEC-A0CC-89E2FEE0A3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8721-DAFA-4C8E-9A6B-EAC755EC9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2628-4E40-4333-97EC-A3E9CA4FC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1DF5-C77C-49D4-86DE-EEA695402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5CAE-D950-4C7A-AD2E-4DDEFA7E9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A6AD-6E87-4066-99F3-538C0581D1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874E-CA0F-4D77-8FF6-353DDB4F3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35B-331C-4B1B-8512-DA24B2E43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FCF7-2F41-4DE5-8B8C-F356142EE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E162-4B24-4053-A3E9-23DFEEFF83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6D83-F49C-4A30-B6D1-8EAE5289CF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E0EA-AB84-43A4-AFC7-67E857299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946A-CC85-4CA0-91F2-E6B5D1CCC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1BD8-5E8F-4FE9-8E83-8BCFB1A4E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2F1F-D23A-48A5-98AB-B4084F974D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0193-BD8C-40C3-A4BA-60D88FA8C2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6A93-7076-4B3E-9E46-7C9D9D9F37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DEA-41C5-4333-9C49-5F7256F3D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1ED0-4523-4CD4-AEFF-D6D94EB50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775-7FAB-40F7-AA75-1E4B30C87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A392-D5EB-46D5-B089-50C02BE3B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75D-6EC6-40B0-ABCE-8F2FF31F90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12DB-5B6C-4A2C-8BAB-7CE4A87F04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D7EE-FC42-4369-82A4-1FF5A824C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1D2A-C8F0-4B1E-872F-6B8DDB8E9C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4D90-2CBE-42C8-B787-FBD03A40E9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1CFF-48D1-4A95-9D08-032FDF051B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45E-4DA1-4B22-8E5D-EE8ADA66D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A74F-76E3-4F27-8DE0-59C579DA0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F22D-E277-4671-8819-1452F08A8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0B5-BDA6-43D1-894A-30A45ED886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328920" y="1593720"/>
            <a:ext cx="2486160" cy="9716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324000" y="3562200"/>
            <a:ext cx="84978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1120" y="1335240"/>
            <a:ext cx="7781760" cy="224784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2" descr=""/>
          <p:cNvPicPr/>
          <p:nvPr/>
        </p:nvPicPr>
        <p:blipFill>
          <a:blip r:embed="rId2"/>
          <a:stretch/>
        </p:blipFill>
        <p:spPr>
          <a:xfrm>
            <a:off x="41400" y="3768840"/>
            <a:ext cx="9061200" cy="20635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456080" y="1916280"/>
            <a:ext cx="69228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4327560" y="2565360"/>
            <a:ext cx="692280" cy="447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7740720" y="1974960"/>
            <a:ext cx="691920" cy="447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7"/>
          <a:stretch/>
        </p:blipFill>
        <p:spPr>
          <a:xfrm>
            <a:off x="1763640" y="42354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8"/>
          <a:stretch/>
        </p:blipFill>
        <p:spPr>
          <a:xfrm>
            <a:off x="176364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9"/>
          <a:stretch/>
        </p:blipFill>
        <p:spPr>
          <a:xfrm>
            <a:off x="4500720" y="4292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0"/>
          <a:stretch/>
        </p:blipFill>
        <p:spPr>
          <a:xfrm>
            <a:off x="485928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11"/>
          <a:stretch/>
        </p:blipFill>
        <p:spPr>
          <a:xfrm>
            <a:off x="7667640" y="4292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12"/>
          <a:stretch/>
        </p:blipFill>
        <p:spPr>
          <a:xfrm>
            <a:off x="7667640" y="4869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257040" y="1533600"/>
            <a:ext cx="8629920" cy="37908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4673520" y="263700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4873680" y="36162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7020000" y="358776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1187280" y="4581360"/>
            <a:ext cx="11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557280" y="1562040"/>
            <a:ext cx="8029440" cy="37339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6516720" y="16714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7970760" y="17305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826920" y="265104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2959200" y="26798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6"/>
          <a:stretch/>
        </p:blipFill>
        <p:spPr>
          <a:xfrm>
            <a:off x="3247920" y="36878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7"/>
          <a:stretch/>
        </p:blipFill>
        <p:spPr>
          <a:xfrm>
            <a:off x="5435640" y="36734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8"/>
          <a:stretch/>
        </p:blipFill>
        <p:spPr>
          <a:xfrm>
            <a:off x="2036880" y="414972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343080" y="1471680"/>
            <a:ext cx="8458200" cy="39146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187280" y="31561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187280" y="386064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5435640" y="314172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5435640" y="384660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5435640" y="4567320"/>
            <a:ext cx="345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723960" y="1843200"/>
            <a:ext cx="7696080" cy="3171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297400" y="2708280"/>
            <a:ext cx="330696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297400" y="3429000"/>
            <a:ext cx="33069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370480" y="4149720"/>
            <a:ext cx="33069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638280" y="1428840"/>
            <a:ext cx="7867440" cy="4000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076720" y="2421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5003640" y="378936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257040" y="190440"/>
            <a:ext cx="8629920" cy="6477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4859280" y="213372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4932360" y="276696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4859280" y="328464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4932360" y="388944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1735200" y="6149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4902120" y="44226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4975200" y="50562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4902120" y="557388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4975200" y="6178680"/>
            <a:ext cx="396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71360" y="57240"/>
            <a:ext cx="8801280" cy="67435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403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971640" y="508464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826920" y="5661000"/>
            <a:ext cx="799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1109520" y="433440"/>
            <a:ext cx="6924960" cy="6362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763640" y="1757520"/>
            <a:ext cx="655344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763640" y="2290680"/>
            <a:ext cx="655344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692360" y="2924280"/>
            <a:ext cx="65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692360" y="342900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778040" y="457992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1778040" y="5113440"/>
            <a:ext cx="65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8"/>
          <a:stretch/>
        </p:blipFill>
        <p:spPr>
          <a:xfrm>
            <a:off x="1706400" y="5746680"/>
            <a:ext cx="6553440" cy="447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9"/>
          <a:stretch/>
        </p:blipFill>
        <p:spPr>
          <a:xfrm>
            <a:off x="1706400" y="6251400"/>
            <a:ext cx="655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0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